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EDA-458B-4D4C-99B7-A9934F61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6B8-9EF6-48EF-9B5B-ABC21F01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BC2-CE88-4DE9-BBAC-624123B7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58F-8709-4B9F-BB88-805F12C2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224C-96FE-4ABA-BC3B-9EA12912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49C8-944D-4E20-9940-2B452C05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FA12-9620-4C28-8124-CCEFCE79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6D5A-FCF3-4BB9-828B-075D4B40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BC41-3BD9-42D9-B6A3-3EAB4CAF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9F32-47AE-491C-BDF1-73F533B7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B697-8806-4EFD-BF25-CED9D5D7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23A-B056-4EC1-A8BD-55E423BB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C099-6DA7-4436-A1F0-2B9D309A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671A-E83E-4D17-AA31-BEA1F8FC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8363-3657-4205-B6F6-29186E8C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BAC6-610B-4154-A4C6-6F118F56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135F-4EA9-4EF9-A263-548D34B8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88E-476C-47A7-B0E1-E50E0E06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045-FFB2-4655-AB71-CB3C2810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C4F-5C34-4E42-97E5-CFB5F954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9D4-8080-426E-B7A5-E7A2FDE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EC4-45FD-4507-8202-1EA13C49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5C0-EB02-4240-B4E9-CB876C09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31C-7B82-4D82-A396-453E2078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6034-117D-44E7-82A5-791013201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59CC-86DC-47B2-858E-201844CCC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0256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«Глава Управы – тьютор информационной 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истемы управления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У СОШ № 933 г.Моск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ренкова Валерия 9 «Г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9400" cy="1700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210440" y="0"/>
            <a:ext cx="193356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995640" y="0"/>
            <a:ext cx="1130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еспечение жителей информаци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52196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0720" algn="ctr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Расклеить объявления по район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писать издать информацию на  бумаге. Но чтобы она была более читаемой нужно придумать интересный дизайн объявления. Объявления следует размещать на информационных стендах, которые должны быть расположены в местах наибольшего пребывания насе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68136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еспечение жителей информаци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2. Рапространение информации по  социальным учреждени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По школам и колледжам, Д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По магазинам, торговым центр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В Управе, муниципалите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В поликлиник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968720" y="4049640"/>
            <a:ext cx="3996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еспечение жителей информаци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3. Раздача листовок на улице (общественные распространители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этого надо напечатать листовки.  Чтобы она была более читаемой нужно, придумать интересный дизайн листов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791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еспечение жителей информаци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4.Через С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очное (важное) информирование района. Может происходить через читаемую, ежедневную или еженедельную газету, центральное телевидение, и по популярному радио (или местному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160720" cy="302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372360" y="5635800"/>
            <a:ext cx="17874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еспечение жителей информаци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5. В транспор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титься в автобусный парк и попросить, чтобы озвучивали нужную информацию через громкоговоритель у водителя, для оповещения всего салона автобу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19280" y="1682640"/>
            <a:ext cx="64594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8880" y="425520"/>
            <a:ext cx="76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543120" cy="3144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форматизация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о сложный социальный процесс, связанный со значительными изменениями в образе жизни населения. Он требует серьезных усилий на многих направлениях, включая ликвидацию компьютерной неграмотности, формирование культуры использования новых информационных технолог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94040" y="46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640880" y="1735200"/>
            <a:ext cx="360" cy="11160"/>
          </a:xfrm>
          <a:custGeom>
            <a:avLst/>
            <a:gdLst/>
            <a:ahLst/>
            <a:rect l="l" t="t" r="r" b="b"/>
            <a:pathLst>
              <a:path w="0" h="13">
                <a:moveTo>
                  <a:pt x="0" y="0"/>
                </a:move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6120" y="3336840"/>
            <a:ext cx="295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00720" y="2781360"/>
            <a:ext cx="2233800" cy="20937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форматизация общест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ганизованный социально - экономический и научно-технический процесс создания оптимальных условий для удовлетворения информационных потребностей и реализации прав граждан, органов государственной власти, органов местного самоуправления, организаций, общественных объединений на основе формирования и использования информационных ресур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тадии интернет услуг и предоставляемой информации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нформирован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предоставление информации в режиме реального времени об оказываемых услугах, режиме работы госучреждений, публикации, объявления и т.п.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стороннее взаимодейств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самостоятельное направление гражданами и организациями различной информации во властные орга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вустороннее взаимодейств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обработка в режиме реального времени полученной от граждан и организаций информации служащими властных структур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уществление транзакци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решение конкретных запросов в режиме реального времени, принятие решений, доставка, оплата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236000" y="5613480"/>
            <a:ext cx="19080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838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КТ в сфере социальной защиты насел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дернизация информационных систем, действующих в районных управлениях социальной защиты насе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дернизация и внедрение информационных систем в центрах социального обслуживания населения, отделениях реабилитации инвалидов и социальных приютах для де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здание и внедрение информационных систем учреждений социального обслуживания населения (дома- на использование электронных документов. интернаты, дома ночного пребывания для лиц БОМЖ, реабилитационные центры инвалидов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евод системы отраслевого документооборо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51640" y="5762520"/>
            <a:ext cx="1428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КТ в быту и досуг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чество жизни пожилых людей, многочисленной и растущей части населения города, а также инвалидов может быть значительно улучшено за счет электронизации квартир. Подключение их жилищ к поликлинике, к рабочему месту социального работника позволит резко повысить эффективность предоставляемой им помощ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здание условий для роста производства отечественного контента для быта и досуга (справочных, развлекательных, образовательных, медицинских видео и компакт дисков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ьзование возможностей кабельного телевидения как канала вхождения информационного общества в каждый д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ганизация новых форм досуга, отвлекающих молодежь от асоциального повед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ганизация публичных точек доступа с целью обеспечения доступа граждан к мировым и отечественным информационным ресурсам организации новых форм досуга молоде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КТ в молодежной сфер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ние предметной области, социоисследования, маркетинг инфопотребностей и инфоресур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оприятия по информатизации  учреждений молодежной отрасли гор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и создание Информационно-функционального комплекса Центра информации и документации молоде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автоматизированной информационной системы социальной безопасности детей и подрост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ИС общественного доступа «Информация молодежи – в  микрорайоне» на базе сети вандалоустойчивых инфома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сети вандалоустойчивых инфоматов (с сенсорным экраном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08720" y="5627520"/>
            <a:ext cx="183528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лижняя перспекти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звитие Интернет-услуг на базе объектов почтовой связ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звитие массовой домашней компьютеризаци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здание и развитие систем электронной торговл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авовое информирование населения, включая сведения, содержащиеся в ведомственных нормативных актах открытого характе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ормирование специализированной инфраструктуры предоставления информационных, компьютерных и телекоммуникационных услуг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27720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2:29:36Z</dcterms:created>
  <dc:creator>User</dc:creator>
  <dc:description/>
  <dc:language>en-US</dc:language>
  <cp:lastModifiedBy>Кисуля</cp:lastModifiedBy>
  <dcterms:modified xsi:type="dcterms:W3CDTF">2009-01-30T19:40:59Z</dcterms:modified>
  <cp:revision>17</cp:revision>
  <dc:subject/>
  <dc:title>Слайд 1</dc:title>
</cp:coreProperties>
</file>